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CF8C-746A-4AF6-884C-F4726AF39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35B4-59C8-4297-8BDA-91A66C16F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2ED5-73CC-46C1-828D-4E3435D4F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F2FC-4F92-4ACD-8D20-BCED83E40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550E-F2D7-4A51-8F8B-7C7D7C0D1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C5C9-542E-4C70-B80C-5417DE985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53ED-C667-4DFB-AF3B-BBC1F76FE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CA27-3F19-465B-8153-471B0BFEC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251C-D12E-4B08-B4BD-CDD0DED3C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7BA0-0D73-4D03-8FE8-BD8B7B3FA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5432-435A-4D33-B5B5-06A9DD6F2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959A-CB04-4C17-8AA0-3BF39AE7A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AEE1-E8C7-48CB-96A7-E1A04DDD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69C3-DA90-46CD-8429-C47F477C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8C1A-AF47-4A8E-96AA-23475F53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9F7-5D35-4A19-A4E6-57521F5B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06734-4E32-4F5E-B6AD-36D47ED82E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BE813-3E30-4023-B57D-270C9DB38F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AB19B-A7BF-4E14-BF99-A654C89D49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65F83-0E0A-437E-A05A-55B73C9BBF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81C6C-22A8-48B5-A9E7-EC9B33645F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A82F1-C003-4930-BB6A-5AFCA24420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C91D7-02B2-48EB-9504-A34DAF8FEB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30E-28AE-4CA7-95D3-8A2C6565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850D1-434C-4F30-903B-CCCA83A9F2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D7798-FE82-4BD0-AEC2-4C1B54E3C6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022BB-1AD1-4515-B061-69D99FCE8E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22156-E753-4E72-803E-509B9FC953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A6BBC-5135-4937-99A4-1979A291C7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A79D-2A08-49C9-87C5-2123D729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D590-0C37-4C38-9EA2-FCD97B1B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A7B4-9471-46EC-B618-47E1373E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0E2F-75B6-49C1-A5DB-7C8F649A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D5AD-B9BC-4F88-97A3-F580972F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256-6677-465E-BEA3-F29A658B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6DEC-9539-4E2A-B841-981D2EFC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9C58-C9ED-4339-AAF9-C9C940C4A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AA0D-411B-4FEA-AE68-CE850AB5E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295280"/>
            <a:ext cx="86108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Augmenting Hydro-MET Data Demands of Impact Assessment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MI (Charlotte, Solo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nell (Tamo, Dan, Z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U (Seifu, Esay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49780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ict sense simple scaling proper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distribution of  maximum rainfall depth is invariant of time scale (Burlando and Rosso, 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 sense simple scaling proper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xtends the scale-invariant property to quantiles and mo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 duration is 1h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 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990720" y="3808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Maximum Half-hour Rain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2"/>
              <p:cNvSpPr txBox="1"/>
              <p:nvPr/>
            </p:nvSpPr>
            <p:spPr>
              <a:xfrm>
                <a:off x="2268360" y="2421000"/>
                <a:ext cx="17272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λD</m:t>
                        </m:r>
                      </m:sub>
                    </m:sSub>
                    <m:limUpp>
                      <m:e/>
                      <m:lim>
                        <m:r>
                          <m:t xml:space="preserve">d</m:t>
                        </m:r>
                      </m:lim>
                    </m:limUpp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η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2195640" y="4076640"/>
                <a:ext cx="27604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λD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η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2195640" y="5373720"/>
                <a:ext cx="25002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η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20108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Maximum Half-hour Rainfall - 2</a:t>
            </a:r>
            <a:br>
              <a:rPr sz="3200"/>
            </a:b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scaling_property.jpg"/>
          <p:cNvPicPr/>
          <p:nvPr/>
        </p:nvPicPr>
        <p:blipFill>
          <a:blip r:embed="rId1"/>
          <a:stretch/>
        </p:blipFill>
        <p:spPr>
          <a:xfrm>
            <a:off x="1166760" y="1268280"/>
            <a:ext cx="693432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1276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Maximum Half-hour Rainfall - 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hart 13" descr=""/>
          <p:cNvPicPr/>
          <p:nvPr/>
        </p:nvPicPr>
        <p:blipFill>
          <a:blip r:embed="rId1"/>
          <a:stretch/>
        </p:blipFill>
        <p:spPr>
          <a:xfrm>
            <a:off x="463680" y="1407960"/>
            <a:ext cx="7851600" cy="44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6994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FSR for SWAT Modeling 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Gumera_mon.jp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2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994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FSR for SWAT Modeling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Gumera_day.jpg"/>
          <p:cNvPicPr/>
          <p:nvPr/>
        </p:nvPicPr>
        <p:blipFill>
          <a:blip r:embed="rId1"/>
          <a:stretch/>
        </p:blipFill>
        <p:spPr>
          <a:xfrm>
            <a:off x="0" y="1415880"/>
            <a:ext cx="9144000" cy="41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13916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FSR for Spatial Down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"/>
          <p:cNvPicPr/>
          <p:nvPr/>
        </p:nvPicPr>
        <p:blipFill>
          <a:blip r:embed="rId1"/>
          <a:stretch/>
        </p:blipFill>
        <p:spPr>
          <a:xfrm>
            <a:off x="971640" y="1171440"/>
            <a:ext cx="7219800" cy="56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13916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Arial"/>
              </a:rPr>
              <a:t>CFSR for Water Fluxes Study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ercentage of water fluxes relative to rainfall in wet season)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UBN_WET.tif"/>
          <p:cNvPicPr/>
          <p:nvPr/>
        </p:nvPicPr>
        <p:blipFill>
          <a:blip r:embed="rId1"/>
          <a:srcRect l="7967" t="3578" r="12234" b="3343"/>
          <a:stretch/>
        </p:blipFill>
        <p:spPr>
          <a:xfrm>
            <a:off x="1066680" y="1193760"/>
            <a:ext cx="7177320" cy="56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120" y="15998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esolution reanalysis data had great potential to improve modeling of landscap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SR data has comparable performance as gauged climate data for SWAT modeling in Ethiopian high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atial pattern of CFSR data is useful for spatial downscaling and bias correction of GCM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ater fluxes of the CFSR data could be to study large-scale fluxes without doing cumbersome data assim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70c0"/>
                </a:solidFill>
                <a:latin typeface="Arial"/>
              </a:rPr>
              <a:t>CFSR Data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2114280"/>
            <a:ext cx="4040280" cy="63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FSR_Grids_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2754000"/>
            <a:ext cx="4040280" cy="265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s’ Center Location File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FSR_Eth_Grids.x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FSR Data File Names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P1&lt;xx&gt;2&lt;yy&gt;_Eth.cs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lt;xx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grid number in west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t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lt;yy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he grid number in north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th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4720" y="2114280"/>
            <a:ext cx="4041720" cy="63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FSR_SWAT_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4720" y="2754000"/>
            <a:ext cx="4041720" cy="32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s’ Center Location Fi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*.DBF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*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T Input File Na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lt;cc&gt;1&lt;xx&gt;2&lt;yy&gt;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lt;cc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limate variables code (PC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, HM, SL and W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ectively for rainfall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e, rela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idity, solar radiation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 spe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Placeholder 2"/>
          <p:cNvSpPr/>
          <p:nvPr/>
        </p:nvSpPr>
        <p:spPr>
          <a:xfrm>
            <a:off x="455760" y="5867280"/>
            <a:ext cx="4039920" cy="83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FSR_W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onthly statistics and grids’ center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5219640" cy="1114200"/>
          </a:xfrm>
          <a:prstGeom prst="rect">
            <a:avLst/>
          </a:prstGeom>
          <a:ln w="9360">
            <a:solidFill>
              <a:srgbClr val="22226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621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ing landscape processes requires detailed climatic and geographic datas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orological stations in most parts of Africa are very sparse and most watersheds are un-gau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ate records are incomplete; high percentage of missing data and relevant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 data accessibility due to lack of data sharing agreement among trans-boundary riparia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-resolution global reanalysis data for SW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ing applications i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Global Climate Data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295280"/>
          <a:ext cx="8229600" cy="4548240"/>
        </p:xfrm>
        <a:graphic>
          <a:graphicData uri="http://schemas.openxmlformats.org/drawingml/2006/table">
            <a:tbl>
              <a:tblPr/>
              <a:tblGrid>
                <a:gridCol w="1143000"/>
                <a:gridCol w="1447920"/>
                <a:gridCol w="1371600"/>
                <a:gridCol w="1447560"/>
                <a:gridCol w="2819520"/>
              </a:tblGrid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Re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ral Re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Horiz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A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de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9 –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de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9 –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de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1 –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Cl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s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olog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, mean and max te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 de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hr, Da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 –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, 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de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hr, Da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8 –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var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de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hr, Da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9 – 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var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S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2 de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~38k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rly, Da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9 –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variables, 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logical quant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Climate Forecast and Reanalysis System (CFS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upled atmosphere-ocean-land-sea ic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milates satellite radiances instead of the retrieved temperature and humidity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for changing CO2 and other trace gases, and solar vari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er spatial (~38km) and temporal (hourly and daily)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milates hydrological quantities from a parallel LSM forced by CMAP and CPC unified daily gaug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2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ther generator files for areas with missing and incomplete climate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 radiation, relative humidity, wind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half-hour rai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T weather input files for un-gauged watersh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downscaling and bias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of large-scale water and energy fl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371600" y="3049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Applications of CFS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CFSR Data for SWAT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295280"/>
          <a:ext cx="7696080" cy="4530960"/>
        </p:xfrm>
        <a:graphic>
          <a:graphicData uri="http://schemas.openxmlformats.org/drawingml/2006/table">
            <a:tbl>
              <a:tblPr/>
              <a:tblGrid>
                <a:gridCol w="2844720"/>
                <a:gridCol w="1133640"/>
                <a:gridCol w="2074680"/>
                <a:gridCol w="16430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SR 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SR Un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ion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T Un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86,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/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 Temperature at 2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73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 Temperature at 2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73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ional wind at 10m (Zonal and Meridion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itude 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0.7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 speed at 2m, ms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ward Solar Radiation fl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0.086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J/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Humidity at 2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 at ground su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al gas law and saturation vapor pressure equ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humidity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rly Precipitation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ing theory and factor with 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half-hour rainfall, 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066680" y="380880"/>
            <a:ext cx="74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Gumera: CFSR vs. Gauge Dat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CFSR_Stns_mon.jpg"/>
          <p:cNvPicPr/>
          <p:nvPr/>
        </p:nvPicPr>
        <p:blipFill>
          <a:blip r:embed="rId1"/>
          <a:stretch/>
        </p:blipFill>
        <p:spPr>
          <a:xfrm>
            <a:off x="109440" y="1413000"/>
            <a:ext cx="8925120" cy="43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066680" y="380880"/>
            <a:ext cx="74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Gumera: CFSR vs. Gauge Dat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CFSR_Stns_scater.jpg"/>
          <p:cNvPicPr/>
          <p:nvPr/>
        </p:nvPicPr>
        <p:blipFill>
          <a:blip r:embed="rId1"/>
          <a:stretch/>
        </p:blipFill>
        <p:spPr>
          <a:xfrm>
            <a:off x="684360" y="1484280"/>
            <a:ext cx="770400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avg_ubn.tif"/>
          <p:cNvPicPr/>
          <p:nvPr/>
        </p:nvPicPr>
        <p:blipFill>
          <a:blip r:embed="rId1"/>
          <a:stretch/>
        </p:blipFill>
        <p:spPr>
          <a:xfrm>
            <a:off x="1066680" y="66600"/>
            <a:ext cx="5788080" cy="68677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6553080" y="22860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Monthly mean Rain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9:58:49Z</dcterms:created>
  <dc:creator>sseyoum</dc:creator>
  <dc:description/>
  <dc:language>en-US</dc:language>
  <cp:lastModifiedBy>LeBorgne, Ewen (ILRI)</cp:lastModifiedBy>
  <dcterms:modified xsi:type="dcterms:W3CDTF">2012-11-13T06:27:25Z</dcterms:modified>
  <cp:revision>35</cp:revision>
  <dc:subject/>
  <dc:title>Evaluating Water Resources:  Upscaling Impacts of RMS</dc:title>
</cp:coreProperties>
</file>